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ahhh.wav" ContentType="audio/x-wav"/>
  <Override PartName="/ppt/media/image4.png" ContentType="image/png"/>
  <Override PartName="/ppt/media/APPLAUSE.WAV" ContentType="audio/x-wav"/>
  <Override PartName="/ppt/media/attabo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8D0-DDEA-4F03-9E39-301DBED9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083-FCE1-480D-A3E4-A4A47BEA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D36-054D-42C1-9573-55D70BA9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721-7392-4314-8EFF-73657702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571-F801-403E-B6F2-15089D2D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B1F-2FD8-40AC-B732-975A3564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F0D-80BB-482E-A7BA-61B491F3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500-6B5F-4873-BF08-ECB19478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BED-B7A3-41BC-8E29-0F36E2AB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028-FB25-4FE3-8975-C9150961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B6E-339C-45AA-941A-4FDF502E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A65-6E93-4C83-AD32-AB5D12F6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4BD9-F7E9-47A5-990E-A9AB4E423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E.WAV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audio" Target="../media/ahh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E.WAV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371600" y="1981080"/>
            <a:ext cx="6400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ferences</a:t>
            </a:r>
            <a:endParaRPr b="0" lang="en-US" sz="2400" spc="1" strike="noStrike">
              <a:ln w="25560">
                <a:solidFill>
                  <a:srgbClr val="33cccc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65240" y="4917960"/>
            <a:ext cx="46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Stacey Doo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etitia B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C:\images &amp; sounds\classroom\bookfacex.gif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685800" y="2666880"/>
            <a:ext cx="7848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ops!  Wrong inference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3049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10800"/>
                </a:moveTo>
                <a:lnTo>
                  <a:pt x="18579" y="3794"/>
                </a:lnTo>
                <a:lnTo>
                  <a:pt x="185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A:\gifmonkey.gif"/>
          <p:cNvPicPr/>
          <p:nvPr/>
        </p:nvPicPr>
        <p:blipFill>
          <a:blip r:embed="rId1"/>
          <a:stretch/>
        </p:blipFill>
        <p:spPr>
          <a:xfrm>
            <a:off x="3294000" y="533520"/>
            <a:ext cx="168912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hh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143000" y="457200"/>
            <a:ext cx="7391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You are Correct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AutoShape 3">
            <a:hlinkClick r:id="rId1"/>
          </p:cNvPr>
          <p:cNvSpPr/>
          <p:nvPr/>
        </p:nvSpPr>
        <p:spPr>
          <a:xfrm>
            <a:off x="7391520" y="556272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3794"/>
                </a:moveTo>
                <a:lnTo>
                  <a:pt x="21618" y="10800"/>
                </a:lnTo>
                <a:lnTo>
                  <a:pt x="7605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90720" y="762120"/>
            <a:ext cx="728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made some terrif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FERENC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A:\crayolapeoplecute.gif"/>
          <p:cNvPicPr/>
          <p:nvPr/>
        </p:nvPicPr>
        <p:blipFill>
          <a:blip r:embed="rId1"/>
          <a:stretch/>
        </p:blipFill>
        <p:spPr>
          <a:xfrm>
            <a:off x="1905120" y="2362320"/>
            <a:ext cx="5333760" cy="327636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66" name="Text Box 4"/>
          <p:cNvSpPr/>
          <p:nvPr/>
        </p:nvSpPr>
        <p:spPr>
          <a:xfrm>
            <a:off x="1127160" y="57405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156200" y="55879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290760" y="5943600"/>
            <a:ext cx="20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Jo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89080" y="2666880"/>
            <a:ext cx="8327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you have to come to a conclusion when you don’t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facts. You can use the clues given to help you make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e (a guess based on known fact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each sentence and choose an inference for each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lightbulb.gif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89080" y="650880"/>
            <a:ext cx="7646760" cy="73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neighbors just drove away with their suitcases and sk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1" action="ppaction://hlinksldjump"/>
              </a:rPr>
              <a:t>Your neighbors are moving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2" action="ppaction://hlinksldjump"/>
              </a:rPr>
              <a:t>They are going to vacation at the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3" action="ppaction://hlinksldjump"/>
              </a:rPr>
              <a:t>    b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4" action="ppaction://hlinksldjump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5" action="ppaction://hlinksldjump"/>
              </a:rPr>
              <a:t>They will vacation in the mount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685800" y="2666880"/>
            <a:ext cx="7848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ops!  Wrong inference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AutoShape 3">
            <a:hlinkClick r:id="rId1" action="ppaction://hlinksldjump"/>
          </p:cNvPr>
          <p:cNvSpPr/>
          <p:nvPr/>
        </p:nvSpPr>
        <p:spPr>
          <a:xfrm>
            <a:off x="3049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10800"/>
                </a:moveTo>
                <a:lnTo>
                  <a:pt x="18579" y="3794"/>
                </a:lnTo>
                <a:lnTo>
                  <a:pt x="185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A:\gifmonkey.gif"/>
          <p:cNvPicPr/>
          <p:nvPr/>
        </p:nvPicPr>
        <p:blipFill>
          <a:blip r:embed="rId2"/>
          <a:stretch/>
        </p:blipFill>
        <p:spPr>
          <a:xfrm>
            <a:off x="3809880" y="304920"/>
            <a:ext cx="198144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ahh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143000" y="457200"/>
            <a:ext cx="7391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You are Correct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3">
            <a:hlinkClick r:id="rId1" action="ppaction://hlinksldjump"/>
          </p:cNvPr>
          <p:cNvSpPr/>
          <p:nvPr/>
        </p:nvSpPr>
        <p:spPr>
          <a:xfrm>
            <a:off x="7391520" y="556272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3794"/>
                </a:moveTo>
                <a:lnTo>
                  <a:pt x="21618" y="10800"/>
                </a:lnTo>
                <a:lnTo>
                  <a:pt x="7605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49480" y="593640"/>
            <a:ext cx="83462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dad is in the yard with a shovel, rak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h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1" action="ppaction://hlinksldjump"/>
              </a:rPr>
              <a:t>He is ready to paint the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2" action="ppaction://hlinksldjump"/>
              </a:rPr>
              <a:t>He is sick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is working in the ga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685800" y="2666880"/>
            <a:ext cx="7848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ops!  Wrong inference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3049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10800"/>
                </a:moveTo>
                <a:lnTo>
                  <a:pt x="18579" y="3794"/>
                </a:lnTo>
                <a:lnTo>
                  <a:pt x="185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A:\gifmonkey.gif"/>
          <p:cNvPicPr/>
          <p:nvPr/>
        </p:nvPicPr>
        <p:blipFill>
          <a:blip r:embed="rId1"/>
          <a:stretch/>
        </p:blipFill>
        <p:spPr>
          <a:xfrm>
            <a:off x="3581280" y="609480"/>
            <a:ext cx="1689120" cy="19051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hh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1143000" y="457200"/>
            <a:ext cx="7391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You are Correct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AutoShape 3">
            <a:hlinkClick r:id="rId1"/>
          </p:cNvPr>
          <p:cNvSpPr/>
          <p:nvPr/>
        </p:nvSpPr>
        <p:spPr>
          <a:xfrm>
            <a:off x="7391520" y="556272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3794"/>
                </a:moveTo>
                <a:lnTo>
                  <a:pt x="21618" y="10800"/>
                </a:lnTo>
                <a:lnTo>
                  <a:pt x="7605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1520" y="482760"/>
            <a:ext cx="884916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ner is not cooking and your mom tol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lean up and put on good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on’t eat dinner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going out for d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working in the ga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5T18:31:50Z</dcterms:created>
  <dc:creator>Jefferson County Schools</dc:creator>
  <dc:description/>
  <dc:language>en-US</dc:language>
  <cp:lastModifiedBy>ITEC Department</cp:lastModifiedBy>
  <dcterms:modified xsi:type="dcterms:W3CDTF">2010-12-30T19:01:16Z</dcterms:modified>
  <cp:revision>5</cp:revision>
  <dc:subject/>
  <dc:title>No Slide Title</dc:title>
</cp:coreProperties>
</file>